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6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17.png" ContentType="image/png"/>
  <Override PartName="/ppt/media/image4.jpeg" ContentType="image/jpeg"/>
  <Override PartName="/ppt/media/camera.wav" ContentType="audio/x-wav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3.jpeg" ContentType="image/jpeg"/>
  <Override PartName="/ppt/media/image5.jpeg" ContentType="image/jpeg"/>
  <Override PartName="/ppt/media/image11.gif" ContentType="image/gif"/>
  <Override PartName="/ppt/media/chimes.wav" ContentType="audio/x-wav"/>
  <Override PartName="/ppt/media/image1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C9E-3DF0-4F99-9694-4C1DFF8E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87FD-BB74-4EB7-9E6F-92EC8B16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B6C-EADA-4FDB-B077-51C17996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EFF6-D31E-42DA-B747-F66A4718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96BD-C127-44BE-B7C0-C02B92F1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322E-25E0-4396-8036-E8DF172A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0099-2A82-41A5-BEC5-0DAA3091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81BD-BCA2-47FF-9015-92E459AF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EF5B-3AC0-49D0-89C9-115FCA68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EB2A-3F53-4550-AD6F-A869A9B6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64E-4C0E-461A-825A-0024A69B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57CE-A045-4E6B-8375-E4F3705E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894E-C6FD-457B-8062-C944426E2B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" Target="slide5.xm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1916280"/>
            <a:ext cx="6858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换位思考　律己宽人</a:t>
            </a:r>
            <a:endParaRPr b="0" lang="en-US" sz="6000" spc="1" strike="noStrike">
              <a:ln w="12600">
                <a:solidFill>
                  <a:srgbClr val="ff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1042920" y="4076640"/>
            <a:ext cx="7201080" cy="1873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16240" y="189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彩云"/>
              </a:rPr>
              <a:t>听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87360" y="15573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琥珀"/>
              </a:rPr>
              <a:t>一、韩信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12160" y="335772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琥珀"/>
              </a:rPr>
              <a:t>二、廉颇与蔺相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applause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d7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292720" y="4653000"/>
            <a:ext cx="3851280" cy="2205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57240" y="0"/>
            <a:ext cx="52099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小结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律己即自己约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自己。严格自律可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成就自己，成就大业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也可以更好地与人相处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古人尚且懂得严格自律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我们做得又如何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de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39440" y="23976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彩云"/>
              </a:rPr>
              <a:t>演讲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80400" y="1773360"/>
            <a:ext cx="37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琥珀"/>
              </a:rPr>
              <a:t>“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琥珀"/>
              </a:rPr>
              <a:t>把别人当作自己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琥珀"/>
              </a:rPr>
              <a:t>——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琥珀"/>
              </a:rPr>
              <a:t>社交之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332000" y="3933720"/>
            <a:ext cx="1523880" cy="1086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843280" y="3933720"/>
            <a:ext cx="1523880" cy="1086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867280" y="3933720"/>
            <a:ext cx="1524240" cy="1086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356000" y="3933720"/>
            <a:ext cx="1524240" cy="1086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16240" y="2397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彩云"/>
              </a:rPr>
              <a:t>演讲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463760" y="3933720"/>
            <a:ext cx="1523880" cy="1086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976480" y="3933720"/>
            <a:ext cx="1524240" cy="1086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000840" y="3933720"/>
            <a:ext cx="1523880" cy="1086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4487760" y="3933720"/>
            <a:ext cx="1524240" cy="1086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32000" y="2060640"/>
            <a:ext cx="65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琥珀"/>
              </a:rPr>
              <a:t>让自己的世界更美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6" name="camera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4920" y="-27000"/>
            <a:ext cx="9360000" cy="6993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400560" y="227664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Arial"/>
                <a:ea typeface="华文彩云"/>
              </a:rPr>
              <a:t>相逢是首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187720" cy="374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268360" y="0"/>
            <a:ext cx="2170440" cy="3716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877080" y="0"/>
            <a:ext cx="2093760" cy="3716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572000" y="0"/>
            <a:ext cx="2170080" cy="371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4076640"/>
            <a:ext cx="86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貂禅　 西施　　王昭君　杨贵妃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谁最美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141120" y="-243000"/>
            <a:ext cx="4498920" cy="7704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91240" y="-243000"/>
            <a:ext cx="4497120" cy="7704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2880" y="21780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貂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25920" y="14472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387360"/>
            <a:ext cx="4457880" cy="7632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7240" y="-2988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王昭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665600" y="-316080"/>
            <a:ext cx="4219560" cy="7490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222880" y="8748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杨贵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e6f9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36880" y="260280"/>
            <a:ext cx="487476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小结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每一个人都有自己的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美观，我们不能认定自己的观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是对的、是最好的，应该善于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他人的立场考虑问题，认识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他人的想法、他人的理由也有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取之处，这样就可以多一点宽容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少一些矛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92720" y="4653000"/>
            <a:ext cx="3851280" cy="2205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3995640" cy="4537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121280" y="1557360"/>
            <a:ext cx="4987800" cy="4581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916360" y="333360"/>
            <a:ext cx="3095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彩云"/>
              </a:rPr>
              <a:t>庐山风景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65" name=""/>
          <p:cNvSpPr/>
          <p:nvPr/>
        </p:nvSpPr>
        <p:spPr>
          <a:xfrm>
            <a:off x="2565360" y="6195960"/>
            <a:ext cx="38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方正姚体"/>
                <a:ea typeface="方正姚体"/>
              </a:rPr>
              <a:t>横看成岭侧成峰</a:t>
            </a:r>
            <a:r>
              <a:rPr b="0" lang="zh-CN" sz="3200" spc="-1" strike="noStrike">
                <a:solidFill>
                  <a:srgbClr val="ff9900"/>
                </a:solidFill>
                <a:latin typeface="方正姚体"/>
                <a:ea typeface="方正姚体"/>
              </a:rPr>
              <a:t>,</a:t>
            </a:r>
            <a:r>
              <a:rPr b="0" lang="zh-CN" sz="3200" spc="-1" strike="noStrike">
                <a:solidFill>
                  <a:srgbClr val="ff9900"/>
                </a:solidFill>
                <a:latin typeface="方正姚体"/>
                <a:ea typeface="方正姚体"/>
              </a:rPr>
              <a:t>远近高低各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79640" y="228600"/>
            <a:ext cx="20095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小品表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484360" y="1844640"/>
            <a:ext cx="4175280" cy="3397320"/>
          </a:xfrm>
          <a:prstGeom prst="rect">
            <a:avLst/>
          </a:prstGeom>
          <a:ln w="0">
            <a:noFill/>
          </a:ln>
        </p:spPr>
      </p:pic>
    </p:spTree>
  </p:cSld>
  <p:transition spd="slow">
    <p:plus/>
    <p:sndAc>
      <p:stSnd>
        <p:snd r:embed="rId3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00000" y="141444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一、　家－－安乐窝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3502080"/>
            <a:ext cx="691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二、　上学路上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42920" y="249228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小品：课　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68480" y="90792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怎样换位思考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3120" y="4875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07:59:1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08:16Z</dcterms:modified>
  <cp:revision>6</cp:revision>
  <dc:subject>主题班会课件(分28大类): http://shop62905894.taobao.com</dc:subject>
  <dc:title>主题班会课件(分28大类): http://shop62905894.taobao.com</dc:title>
</cp:coreProperties>
</file>